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AED-48E2-4C38-A3A7-6729EFD1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FB1-35A8-4901-8523-78233BC0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9AA-CAE6-4D49-9B5C-087F583D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BEB-935F-467D-9626-D8C1F540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3E6F-5A30-4451-92CD-7CE79E77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A85B-438C-402A-8CE9-97EBF759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9549-9BFA-4F94-963D-0EC93748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C175-FF34-4920-891E-C9004608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5902-E9ED-4E9B-A36E-6E9CAB6C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7FDE-9B92-4DA4-846A-A8476583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D8F1-EA9B-4790-8E95-BC69CF4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CA9-16B9-42ED-838F-4AD0E8B3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2A85-95C2-4BCE-9BC3-A276C66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8D3F-D7D9-49F8-9D2A-62582AD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AD82-B6E6-4F03-AEDF-BD7D38D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297E-9A86-4C98-B506-1DC4C74E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4FB6-75A7-499D-98F7-00C3BA4B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E02-8CFC-48D0-A539-1DF367DD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AE0-A30D-454A-ABB3-3F402110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551-68A3-42D8-947B-E549F69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17F-F724-45B9-81FC-16746CA8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CE4-7903-4BD5-A885-BCB25B64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E57-2CD9-4614-AACC-8FEED22C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ED3-FD9E-47F6-8DFB-F4C2EBD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9F02-5F60-42CF-8B89-6EDB94C641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D7E0-E572-472C-8C52-6AAB6D0B61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La Casa del Luiz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Luiz Fagun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colección de carro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lección de carros y bon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4624560"/>
            <a:ext cx="3352680" cy="2233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352680" y="468648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248520" y="54291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1447920" cy="120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447920" y="3429000"/>
            <a:ext cx="1523880" cy="969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3352680" y="2971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400800" y="3276720"/>
            <a:ext cx="2438280" cy="1627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carr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arro y gra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</a:t>
            </a:r>
            <a:r>
              <a:rPr b="0" lang="es-PR" sz="4400" spc="-1" strike="noStrike">
                <a:solidFill>
                  <a:srgbClr val="dbbd71"/>
                </a:solidFill>
                <a:latin typeface="Arial"/>
              </a:rPr>
              <a:t>espad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espada y boñ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450040" y="1523880"/>
            <a:ext cx="369396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gara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garaje es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26575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 mansion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mansion es boni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8667720" cy="4267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 garaje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garaje incre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cocina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cina es luj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914560"/>
            <a:ext cx="9144000" cy="3943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sala bel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 gusta mi s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 bañ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baño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2695680"/>
            <a:ext cx="8610480" cy="4162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 cautro es gran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tro es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2496960"/>
            <a:ext cx="5562720" cy="436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 comedor bell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medor y magnif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2867040"/>
            <a:ext cx="7543800" cy="3990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piscina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piscna y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6705720" cy="3465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1:34Z</dcterms:created>
  <dc:creator>fagundeslui</dc:creator>
  <dc:description/>
  <dc:language>en-US</dc:language>
  <cp:lastModifiedBy>fagundeslui</cp:lastModifiedBy>
  <dcterms:modified xsi:type="dcterms:W3CDTF">2012-10-25T17:24:36Z</dcterms:modified>
  <cp:revision>5</cp:revision>
  <dc:subject/>
  <dc:title>La casa del luiz</dc:title>
</cp:coreProperties>
</file>